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9DB-0926-4A96-9959-B38E22A8DD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5D0-8E84-4B13-8920-7375D5F7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attention aux prof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fais attention aux prof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raison tout le temp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vers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As-tu raison tout le temp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mal aux autre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est-ce que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st-ce que tu fais mal aux autre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Des élèves français rendent visitent à Barlow et vous faites leur connaissance.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Alors, vous aimeriez leur poser des questions sur leurs intérêts mais avant de leur parler, vous écrivez les questions.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Tâ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Composer des questions à leur poser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de l’équitation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600200" y="3962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ahoma"/>
              </a:rPr>
              <a:t>Tu fais de l’équita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ight Arrow 2"/>
          <p:cNvSpPr/>
          <p:nvPr/>
        </p:nvSpPr>
        <p:spPr>
          <a:xfrm rot="20734800">
            <a:off x="2950920" y="5106960"/>
            <a:ext cx="4343400" cy="38088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6264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3" descr="1206572345498733688johnny_automatic_NPS_map_pictographs_part_35.svg.med.png"/>
          <p:cNvPicPr/>
          <p:nvPr/>
        </p:nvPicPr>
        <p:blipFill>
          <a:blip r:embed="rId1"/>
          <a:stretch/>
        </p:blipFill>
        <p:spPr>
          <a:xfrm>
            <a:off x="0" y="2514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e la chanc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600200" y="5105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as de la chanc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four-leaf-clover.gif"/>
          <p:cNvPicPr/>
          <p:nvPr/>
        </p:nvPicPr>
        <p:blipFill>
          <a:blip r:embed="rId1"/>
          <a:stretch/>
        </p:blipFill>
        <p:spPr>
          <a:xfrm>
            <a:off x="3200400" y="28440"/>
            <a:ext cx="2919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la fêt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n’est-ce pas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447920" y="510552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fais la fête, n’est-ce pa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" descr="fete.png"/>
          <p:cNvPicPr/>
          <p:nvPr/>
        </p:nvPicPr>
        <p:blipFill>
          <a:blip r:embed="rId1"/>
          <a:stretch/>
        </p:blipFill>
        <p:spPr>
          <a:xfrm>
            <a:off x="2666880" y="-152280"/>
            <a:ext cx="396252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u courage dans le noir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vers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371600" y="5257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As-tu du courage dans le noi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1" descr="qui a peur du noir.JPG"/>
          <p:cNvPicPr/>
          <p:nvPr/>
        </p:nvPicPr>
        <p:blipFill>
          <a:blip r:embed="rId1"/>
          <a:stretch/>
        </p:blipFill>
        <p:spPr>
          <a:xfrm>
            <a:off x="3722760" y="-2095560"/>
            <a:ext cx="2982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des projets pour le weekend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est-ce que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371600" y="53262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st-ce que tu fais des projets pour le weekend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e la patienc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n’est-ce pas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600200" y="51055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as de la patience, n’est-ce pa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8T00:06:40Z</dcterms:modified>
  <cp:revision>106</cp:revision>
  <dc:subject/>
  <dc:title>Allez, viens! – Level 2</dc:title>
</cp:coreProperties>
</file>